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05581"/>
        <c:axId val="6591575"/>
      </c:barChart>
      <c:catAx>
        <c:axId val="2680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1575"/>
        <c:crosses val="autoZero"/>
        <c:auto val="1"/>
        <c:lblAlgn val="ctr"/>
        <c:lblOffset val="100"/>
        <c:noMultiLvlLbl val="0"/>
      </c:catAx>
      <c:valAx>
        <c:axId val="6591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0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6AD-F35C-4F05-948C-E998BD84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AEF-B5FE-4395-8227-C3C0C1F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571-B5BB-48BE-86B6-A652E03D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B4F-F657-4D2F-A032-7BD618F3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2FB-A47A-4836-9031-38A83CED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71C-EE0C-407E-8A9A-D19E9E6F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FAF-5972-48DF-8CE9-F649307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F84-400D-4B85-8FE6-75929680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564-9A58-4943-8F06-98722FAF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F28-BD93-416C-BB9C-6DEB0DC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1CE-71A7-438F-8F06-AFC70E89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F9C-3E6C-4182-BFDF-FFEA964C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B5A84-F306-4B73-8893-F2C3B1C256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