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960757"/>
        <c:axId val="14282376"/>
      </c:barChart>
      <c:catAx>
        <c:axId val="839607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282376"/>
        <c:crosses val="autoZero"/>
        <c:auto val="1"/>
        <c:lblAlgn val="ctr"/>
        <c:lblOffset val="100"/>
        <c:noMultiLvlLbl val="0"/>
      </c:catAx>
      <c:valAx>
        <c:axId val="142823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9607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CCCD-0533-41C1-8BAA-3F520FA42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71EB-CEF3-4DBB-B4AA-2C5EA3EC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308F-C5C1-47D9-A2B1-94BFF8E5C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A70D-7186-45F6-BC98-D323A411D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B25C-A579-4FCD-8E8B-F2F61969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DD39-5648-4928-966D-64A8FE8B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D291-F45A-4F91-ACA0-CF23B081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5A99-FB64-4AF7-8A54-F822909F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1284-CE39-4600-8175-BFA7E93A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8D28-5AAB-4D0B-A61C-57155BCA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2E0A-C572-4B0F-87A8-FCE41013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FE94-349F-4305-B93E-50C035F2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EEB559-933B-42EC-A244-6C3D0E81AD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