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77168"/>
        <c:axId val="59548138"/>
      </c:barChart>
      <c:catAx>
        <c:axId val="36977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48138"/>
        <c:crosses val="autoZero"/>
        <c:auto val="1"/>
        <c:lblAlgn val="ctr"/>
        <c:lblOffset val="100"/>
        <c:noMultiLvlLbl val="0"/>
      </c:catAx>
      <c:valAx>
        <c:axId val="59548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77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224-A1F7-46B4-B98F-27FD56F5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7F5-53D0-48DC-A4D6-D27D5559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9C5-2275-4FC1-A03C-45C1BFC4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C0C-0120-4642-8963-7522B1D8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5D3-95F9-4095-B8B7-404A9FE9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5F5-E28C-4ED0-9E54-EF289C8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4D4-69A9-48AD-B761-75B06BDD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91D-04B4-462B-88E9-B1D17B21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3ED-D37B-47F0-B482-969E5A42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F61-6B50-4B4D-B195-1BABA7C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682-A878-4D2A-9876-2B71D08C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F42-3774-4471-824F-FF29F71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33DC5-89CD-42A1-A9F1-148B644CB6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