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37853"/>
        <c:axId val="2573227"/>
      </c:barChart>
      <c:catAx>
        <c:axId val="91637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3227"/>
        <c:crosses val="autoZero"/>
        <c:auto val="1"/>
        <c:lblAlgn val="ctr"/>
        <c:lblOffset val="100"/>
        <c:noMultiLvlLbl val="0"/>
      </c:catAx>
      <c:valAx>
        <c:axId val="2573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37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E9E-6369-4030-AA6E-8DC7F1F9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CC3-DEB9-4043-A754-2059D187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066-E960-4058-A9A5-FF235B36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284-0874-4DB6-B3CB-973E935F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F5C-4AE5-41A9-A2E7-1C98CD05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07E-21B3-4422-AE0C-23DF4E5C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082-22AD-4979-A60D-D32E8B4C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183-510B-4626-A2D2-50AED45C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F64-13C5-4538-9477-AAABBC9F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875-3C01-4790-81C0-88A7EE5E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C5D-0F85-487A-8785-0FB97CC6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4F80-68D1-4D17-9266-48EF1E64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DDB7A-372F-4383-ABBD-BC0387E0E8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